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004-3C8D-427E-B312-31199D76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899-6B6A-4EF8-875A-14450F36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14E-518E-48FE-9844-3FDEC030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4C9-C879-4788-B53A-EC20FFE3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F19-3D1F-4BFC-893B-FCB950D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860-8DB1-4084-8B00-5866CA26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F77-7C2A-4B05-9EEB-7B0A5FFD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66B-F9D4-4269-B864-B1C4C406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2EB-2A9F-4DD5-9556-20E39177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236-4639-4CF2-BE4C-A98EB024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B95-F2E2-4FD9-B779-27C0608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984-A783-4E3D-9610-90F10BD8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7B53-1829-449C-B649-D24A5B16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t between  a strait and a isthm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236232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plateau and a mes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au is bigger than a m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rapezoid 5"/>
          <p:cNvSpPr/>
          <p:nvPr/>
        </p:nvSpPr>
        <p:spPr>
          <a:xfrm>
            <a:off x="380880" y="4267080"/>
            <a:ext cx="3276720" cy="1981440"/>
          </a:xfrm>
          <a:prstGeom prst="pie">
            <a:avLst/>
          </a:prstGeom>
          <a:solidFill>
            <a:srgbClr val="6633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rapezoid 6"/>
          <p:cNvSpPr/>
          <p:nvPr/>
        </p:nvSpPr>
        <p:spPr>
          <a:xfrm>
            <a:off x="5257800" y="4724280"/>
            <a:ext cx="1905120" cy="1295640"/>
          </a:xfrm>
          <a:prstGeom prst="pie">
            <a:avLst/>
          </a:prstGeom>
          <a:solidFill>
            <a:srgbClr val="0d0d0d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wn Arrow 14"/>
          <p:cNvSpPr/>
          <p:nvPr/>
        </p:nvSpPr>
        <p:spPr>
          <a:xfrm rot="3179400">
            <a:off x="3625200" y="3218040"/>
            <a:ext cx="890640" cy="20811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Down Arrow 15"/>
          <p:cNvSpPr/>
          <p:nvPr/>
        </p:nvSpPr>
        <p:spPr>
          <a:xfrm rot="839400">
            <a:off x="6178680" y="2841480"/>
            <a:ext cx="701640" cy="1828800"/>
          </a:xfrm>
          <a:prstGeom prst="downArrow">
            <a:avLst>
              <a:gd name="adj1" fmla="val 50000"/>
              <a:gd name="adj2" fmla="val 4994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river and tribu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ver is b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ttp://nisley.mesa.k12.co.us/students/images/HighPlainsSpringB_0446.jpg"/>
          <p:cNvPicPr/>
          <p:nvPr/>
        </p:nvPicPr>
        <p:blipFill>
          <a:blip r:embed="rId1"/>
          <a:stretch/>
        </p:blipFill>
        <p:spPr>
          <a:xfrm>
            <a:off x="1143000" y="2590920"/>
            <a:ext cx="4505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wayfaring.info/wp-content/uploads/2008/07/clifton-beach-cape-town.jpg"/>
          <p:cNvPicPr/>
          <p:nvPr/>
        </p:nvPicPr>
        <p:blipFill>
          <a:blip r:embed="rId1"/>
          <a:stretch/>
        </p:blipFill>
        <p:spPr>
          <a:xfrm>
            <a:off x="762120" y="2286000"/>
            <a:ext cx="54864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www.crescent.edu.sg/ipw/1999/29g9-river/featur2.gif"/>
          <p:cNvPicPr/>
          <p:nvPr/>
        </p:nvPicPr>
        <p:blipFill>
          <a:blip r:embed="rId1"/>
          <a:stretch/>
        </p:blipFill>
        <p:spPr>
          <a:xfrm>
            <a:off x="457200" y="2133720"/>
            <a:ext cx="5648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c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28:27Z</dcterms:modified>
  <cp:revision>39</cp:revision>
  <dc:subject/>
  <dc:title>PowerPoint Presentation</dc:title>
</cp:coreProperties>
</file>